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5C2-9425-411B-83D0-57073C2B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0E7-9917-4274-991C-C5E2F9A2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B3F-CF02-4482-8F54-844BDD17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D56-5160-498C-94D7-F149C663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F92-0E16-4558-A0BE-C0243274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659-8102-4248-A759-AE893163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FED-F545-4C10-898D-5CAC3264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555-4111-483C-A559-38677B6E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D8E-B17D-4F79-8226-7D5D40CC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15D-6F18-4D74-9E14-C4BE325E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60A-E307-41D4-AB7C-D97AAB12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CF5-7F8A-45A4-A621-75A2369E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S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F23D-2583-4DFA-BF4E-5F976171F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10280" y="52848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MOD 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Ca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OD Coori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ear many h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mon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list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desk (ie, answering support requ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“should” b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ings work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ftware is stand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core apps interact directl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this be good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al formal vett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ly, require interoperabilit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chema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on gmod-schema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, no v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focus--genome feature vis &amp;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tive genomics/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web brow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GMOD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50 orgs (using core a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ad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ciu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D-Princ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evelop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nstallation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 clustering tools (including anything that needs to go into Ch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type and phylogeny schema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ow to attract use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-in from funding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 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GMOD side, having good documentation 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acting Evolutionary Biolog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GMOD meeting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what mee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chema modules and apps do we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2:26:49Z</dcterms:created>
  <dc:creator>Scott Cain</dc:creator>
  <dc:description/>
  <dc:language>en-US</dc:language>
  <cp:lastModifiedBy>Scott Cain</cp:lastModifiedBy>
  <cp:lastPrinted>1904-01-01T00:00:00Z</cp:lastPrinted>
  <dcterms:modified xsi:type="dcterms:W3CDTF">2006-01-20T13:29:33Z</dcterms:modified>
  <cp:revision>18</cp:revision>
  <dc:subject/>
  <dc:title>GMOD Administrivia</dc:title>
</cp:coreProperties>
</file>